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EE4-24CF-45C2-9223-A79861D3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716-7BB0-4EEF-B00A-FBF06D45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9A3-0F3E-4D93-94CC-F62D9E63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416-50CB-40CE-B46C-40830E1A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07D-6BA7-4268-82A3-D00947A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27F-26FA-4349-8F4A-C9662D43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CBA-DEF9-4C9E-A9A5-3F9A8A8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6B6-6F38-47A9-8EDD-CC43C697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34E-9965-4D40-9307-28CC7A40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B7E-19A2-4AFF-A807-8600276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00F-56F7-4B9E-A0ED-8F0AF4B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441-8F39-4D12-B09D-FCEC814E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D62-2643-4144-A93C-FC99BFBA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390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Perpetua Titling MT"/>
              </a:rPr>
              <a:t>El </a:t>
            </a:r>
            <a:r>
              <a:rPr b="0" lang="en-US" sz="4800" spc="-1" strike="noStrike" u="sng">
                <a:solidFill>
                  <a:srgbClr val="0000cc"/>
                </a:solidFill>
                <a:uFillTx/>
                <a:latin typeface="Perpetua Titling MT"/>
              </a:rPr>
              <a:t>teatro</a:t>
            </a:r>
            <a:r>
              <a:rPr b="0" lang="en-US" sz="4800" spc="-1" strike="noStrike">
                <a:solidFill>
                  <a:srgbClr val="0000cc"/>
                </a:solidFill>
                <a:latin typeface="Perpetua Titling MT"/>
              </a:rPr>
              <a:t> Fant</a:t>
            </a:r>
            <a:r>
              <a:rPr b="0" lang="en-US" sz="4800" spc="-1" strike="noStrike">
                <a:solidFill>
                  <a:srgbClr val="0000cc"/>
                </a:solidFill>
                <a:latin typeface="Perpetua Titling MT"/>
                <a:ea typeface="Arial"/>
              </a:rPr>
              <a:t>ástico</a:t>
            </a:r>
            <a:r>
              <a:rPr b="0" lang="en-US" sz="4800" spc="-1" strike="noStrike">
                <a:solidFill>
                  <a:srgbClr val="333399"/>
                </a:solidFill>
                <a:latin typeface="Perpetua Titling MT"/>
                <a:ea typeface="Arial"/>
              </a:rPr>
              <a:t>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n Apertur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Qu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é: Las Rocket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Cuando: 25 de Deciembre, 8: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La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rada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 es: $20- niños, $30-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Donde: Broadway, Nueva Y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Quien: los bailarines de Las Rocket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733920"/>
            <a:ext cx="609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El Teatro Fantástico, es un gran momento. El teatro es muy elegante y bonita. Las entrada son poco y hay pequeña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fila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en la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boltería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. Hay buenos meriendas. En el teatro las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butacas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hay muy cómodo. Los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actores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 son muy bueno y actúan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escenarios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. Le teatro está cerca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la metro estación. 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Es muy conveniente. El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obra teatro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es muy fantastico! Es un gran experiencia.</a:t>
            </a:r>
            <a:r>
              <a:rPr b="0" lang="en-US" sz="14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6844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477120" y="1787400"/>
            <a:ext cx="2438280" cy="1879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85800" y="4876920"/>
            <a:ext cx="2971800" cy="17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248520" y="4952880"/>
            <a:ext cx="25905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3:25:29Z</dcterms:created>
  <dc:creator>zeliffmad</dc:creator>
  <dc:description/>
  <dc:language>en-US</dc:language>
  <cp:lastModifiedBy>zeliffmad</cp:lastModifiedBy>
  <dcterms:modified xsi:type="dcterms:W3CDTF">2011-12-23T17:54:09Z</dcterms:modified>
  <cp:revision>6</cp:revision>
  <dc:subject/>
  <dc:title>El teatro Fantástico! </dc:title>
</cp:coreProperties>
</file>